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2.wmf" ContentType="image/x-wmf"/>
  <Override PartName="/ppt/media/image9.gif" ContentType="image/gif"/>
  <Override PartName="/ppt/media/image10.gif" ContentType="image/gif"/>
  <Override PartName="/ppt/media/image13.wmf" ContentType="image/x-wmf"/>
  <Override PartName="/ppt/media/image11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58AA-31B6-4755-B5C7-721613FC5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8CC1-BB95-401B-B0B5-E4677EC7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5111-C240-404E-AEDA-DCD97C18F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A36A-5829-464C-BCD7-490D417C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15CC-775E-4558-A5CD-4D94906AA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0040-84BC-4FBA-9575-66E2E85A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2FB2-6A4C-4049-97C4-F724D8B2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9897-BB3B-4484-BE38-5C2B1CCC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5D486-4308-4474-B2A7-67CD98CD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4049-F12C-42F1-938F-66FA54F2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E380-C5DA-4736-8F0D-52AE7652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34CC-2902-4E6C-95C7-978A88F3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BA0B-6F9C-44EB-9457-27D3DE2E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77B4-47F1-4C26-8D61-ECBD7494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B944-DD8E-4426-B6A5-2E24DB2A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F3CD-50C6-4105-B2A8-E6BDB586E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C36A-7A39-4737-A9AF-D71320CD4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7FC3D-8CA0-4C9E-AF0A-853DA4706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27A0B-1763-4A99-A4A6-EA275DCE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DA6FF-9186-4371-A891-8C46957C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A1CC4-DF7B-48FD-8E50-F81009E0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4C1CE-BB7D-49D0-A800-082C5250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ABEB-5414-4E01-92A3-69DB298B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74B8B-54A4-42A1-8DE5-DBE6F8FF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AC76F-53CE-449B-8B67-08D8F3CD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04EAF-89A4-467E-ACF7-4C7C11C3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C9DED-553C-460E-BBDC-59F76BD3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AF581-1708-478A-9F9B-5256C1DA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6B03F-1213-4C4C-A08A-6A4F546D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E9CA9-A649-4DB2-ADF7-CC1EF5D9C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3A11B-A0E4-4A08-A710-44FB33DCC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DD77D-DB85-401E-AC93-DEA0DB5E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5DE67-79A8-49FA-953A-32070FF7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86DE-6793-4FEE-9284-ADF13B82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6D706-081F-4FA6-B865-F76FD25D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26503-DCFC-4AFC-AA20-1EF0E757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EDA5A-513B-44F7-BD0D-BDB430EA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CC1C4-FC6D-42E6-AF84-B1215143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57E8E-2F20-4471-B5E4-FAC32E26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821DB-B253-44A8-819B-7A9B86DF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05EB0-B691-47D6-BF43-7E238EA0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61F42-7249-4213-B908-B60B8C07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227FA-F5E8-46C3-915A-B73E34B13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FA26-4C93-459E-8EAF-AC1F4EC9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CBFB-9E74-48E7-A2B5-7F334B82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3F1F-064F-4122-8DF6-48CECCC0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99E1-024A-4026-A02F-22340325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59CE-97D1-4768-AC4F-FFE6E903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7B40-E2DB-4D2C-9CE5-88BAC6B0579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73DD-724C-4A64-BB41-F40D5EE7460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BEB4-90E5-4603-8205-00C475EAB2A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072E-DA2D-4B65-895F-8A33E89F9E4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Kurt Reith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ch spiele football und baseball fur meine gesundhei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uch, ich spiele basketball und in es, ich lauf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uch, ich esse obst denn, es ist gut fur mein gesundheit und obst schmeckt sehr gu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4" descr="MP900442234[1]"/>
          <p:cNvPicPr/>
          <p:nvPr/>
        </p:nvPicPr>
        <p:blipFill>
          <a:blip r:embed="rId1"/>
          <a:stretch/>
        </p:blipFill>
        <p:spPr>
          <a:xfrm>
            <a:off x="5715000" y="4724280"/>
            <a:ext cx="1320840" cy="1981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MC900441272[1]"/>
          <p:cNvPicPr/>
          <p:nvPr/>
        </p:nvPicPr>
        <p:blipFill>
          <a:blip r:embed="rId2"/>
          <a:stretch/>
        </p:blipFill>
        <p:spPr>
          <a:xfrm>
            <a:off x="3200400" y="4800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j0223774"/>
          <p:cNvPicPr/>
          <p:nvPr/>
        </p:nvPicPr>
        <p:blipFill>
          <a:blip r:embed="rId3"/>
          <a:stretch/>
        </p:blipFill>
        <p:spPr>
          <a:xfrm>
            <a:off x="1981080" y="5181480"/>
            <a:ext cx="12384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u rauchst und das ist nicht gut fur deine gesundhei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ber, du laufst jeden tag und dass ist sehr gu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4" descr="j0205365"/>
          <p:cNvPicPr/>
          <p:nvPr/>
        </p:nvPicPr>
        <p:blipFill>
          <a:blip r:embed="rId1"/>
          <a:stretch/>
        </p:blipFill>
        <p:spPr>
          <a:xfrm>
            <a:off x="6400800" y="4191120"/>
            <a:ext cx="1766880" cy="1766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j0283030"/>
          <p:cNvPicPr/>
          <p:nvPr/>
        </p:nvPicPr>
        <p:blipFill>
          <a:blip r:embed="rId2"/>
          <a:stretch/>
        </p:blipFill>
        <p:spPr>
          <a:xfrm>
            <a:off x="2819520" y="3352680"/>
            <a:ext cx="28954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ine Mutter sagt, “Kurt, du darfst Pizza und Fleisch essen.”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ch darf nicht rauchen denn es ist nicht gut fur meine Gesundheit. Du kannst davon sterbe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4" descr="j0215791"/>
          <p:cNvPicPr/>
          <p:nvPr/>
        </p:nvPicPr>
        <p:blipFill>
          <a:blip r:embed="rId1"/>
          <a:stretch/>
        </p:blipFill>
        <p:spPr>
          <a:xfrm>
            <a:off x="5029200" y="4343400"/>
            <a:ext cx="3908520" cy="2266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j0215933"/>
          <p:cNvPicPr/>
          <p:nvPr/>
        </p:nvPicPr>
        <p:blipFill>
          <a:blip r:embed="rId2"/>
          <a:stretch/>
        </p:blipFill>
        <p:spPr>
          <a:xfrm>
            <a:off x="1600200" y="4724280"/>
            <a:ext cx="259380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7:26:57Z</dcterms:created>
  <dc:creator>CUSD220</dc:creator>
  <dc:description/>
  <dc:language>en-US</dc:language>
  <cp:lastModifiedBy>Reith</cp:lastModifiedBy>
  <dcterms:modified xsi:type="dcterms:W3CDTF">2012-03-02T00:37:45Z</dcterms:modified>
  <cp:revision>7</cp:revision>
  <dc:subject/>
  <dc:title>Meine Gesundheit</dc:title>
</cp:coreProperties>
</file>